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35D9-2589-4300-9EB5-8B8C989E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2F3-1746-4A41-A19B-F243D39B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7FF-3457-4809-958B-71FF8852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9B32-3CE7-4FD6-84A7-EC9340CE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C94-BB98-4B99-90E9-12ABF4EE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933-E742-4D38-B45A-9537FFC5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7BB-EF22-432A-BAF1-FF6325E1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752C-1C68-47C9-BAC9-278F4054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37F7-C337-4B9F-B33E-6C846652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8B5E-3736-4582-93F9-A15DE047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4ABF-970C-4EDB-A2DD-F928896C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5387-DAC5-479D-BBAC-3BDBE9D9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CB55-5BFC-4E75-B2DC-E66B78188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8920" y="2133720"/>
            <a:ext cx="8713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amentul optim al acţiunii educative din şcoală este în funcţie de formula următoare: unei psihologii diferenţiale să-i corespundă o pedagogie individualizată’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le Planchard (197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826920" y="404640"/>
            <a:ext cx="7772400" cy="14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DAPTAREA  LECŢIILOR  DE  CHIMIE LA  CERINŢELE   EDUCAŢIONALE IMPUSE  DE  NIVELUL </a:t>
            </a:r>
            <a:endParaRPr b="0" lang="en-US" sz="4000" spc="1" strike="noStrike">
              <a:ln w="1908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1908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ASEI / ELEVULUI  PENTRU  PARCURGEREA    PROGRAMEI  ŞCOLARE                  </a:t>
            </a:r>
            <a:endParaRPr b="0" lang="en-US" sz="4000" spc="1" strike="noStrike">
              <a:ln w="1908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6" descr="123gifs001"/>
          <p:cNvPicPr/>
          <p:nvPr/>
        </p:nvPicPr>
        <p:blipFill>
          <a:blip r:embed="rId1"/>
          <a:stretch/>
        </p:blipFill>
        <p:spPr>
          <a:xfrm>
            <a:off x="3348000" y="4653000"/>
            <a:ext cx="2160720" cy="1693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ÎNCERCUIŢI SUBSTANŢE CU  CARB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DIAMANT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GRAF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) APA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1289993080a06c7a2a1f7d955b70ad24f3fa4e06421"/>
          <p:cNvPicPr/>
          <p:nvPr/>
        </p:nvPicPr>
        <p:blipFill>
          <a:blip r:embed="rId1"/>
          <a:stretch/>
        </p:blipFill>
        <p:spPr>
          <a:xfrm>
            <a:off x="2195640" y="981000"/>
            <a:ext cx="1152360" cy="901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c_creion_grafit_monolit__38797"/>
          <p:cNvPicPr/>
          <p:nvPr/>
        </p:nvPicPr>
        <p:blipFill>
          <a:blip r:embed="rId2"/>
          <a:stretch/>
        </p:blipFill>
        <p:spPr>
          <a:xfrm>
            <a:off x="2124000" y="206064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ANd9GcR8akJrxFr8JACjjmwNBnRMl_kEj3TJT5JDCTSOO8wQAVBTOXqTsQ"/>
          <p:cNvPicPr/>
          <p:nvPr/>
        </p:nvPicPr>
        <p:blipFill>
          <a:blip r:embed="rId3"/>
          <a:stretch/>
        </p:blipFill>
        <p:spPr>
          <a:xfrm>
            <a:off x="2050920" y="3500280"/>
            <a:ext cx="1327320" cy="895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Mystery-Chemist"/>
          <p:cNvPicPr/>
          <p:nvPr/>
        </p:nvPicPr>
        <p:blipFill>
          <a:blip r:embed="rId4"/>
          <a:stretch/>
        </p:blipFill>
        <p:spPr>
          <a:xfrm>
            <a:off x="5148360" y="907920"/>
            <a:ext cx="2657520" cy="37432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812880" indent="-812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ff"/>
                </a:solidFill>
                <a:latin typeface="Arial"/>
              </a:rPr>
              <a:t>Asociază corespunzător cifrele coloanei A cu literele coloanei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                                                 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Aerul                 a. este un amestec de gaze ce conţine 21% ox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Carbonul            b.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ine numai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Oxigenul            c. este un gaz incol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fara miros,cu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mantu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d. se gă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 în natură sub formă de cărb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logo_chimie"/>
          <p:cNvPicPr/>
          <p:nvPr/>
        </p:nvPicPr>
        <p:blipFill>
          <a:blip r:embed="rId9"/>
          <a:stretch/>
        </p:blipFill>
        <p:spPr>
          <a:xfrm>
            <a:off x="3203640" y="4508640"/>
            <a:ext cx="1657440" cy="963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Diagram 4"/>
          <p:cNvGrpSpPr/>
          <p:nvPr/>
        </p:nvGrpSpPr>
        <p:grpSpPr>
          <a:xfrm>
            <a:off x="2306520" y="2183040"/>
            <a:ext cx="4314960" cy="2646000"/>
            <a:chOff x="2306520" y="2183040"/>
            <a:chExt cx="4314960" cy="2646000"/>
          </a:xfrm>
        </p:grpSpPr>
        <p:sp>
          <p:nvSpPr>
            <p:cNvPr id="53" name="_s1028"/>
            <p:cNvSpPr/>
            <p:nvPr/>
          </p:nvSpPr>
          <p:spPr>
            <a:xfrm flipH="1" flipV="1">
              <a:off x="3399120" y="3387600"/>
              <a:ext cx="532440" cy="1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29"/>
            <p:cNvSpPr/>
            <p:nvPr/>
          </p:nvSpPr>
          <p:spPr>
            <a:xfrm>
              <a:off x="2306520" y="29214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utroni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0"/>
            <p:cNvSpPr/>
            <p:nvPr/>
          </p:nvSpPr>
          <p:spPr>
            <a:xfrm flipH="1">
              <a:off x="3805920" y="3896280"/>
              <a:ext cx="329040" cy="28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1"/>
            <p:cNvSpPr/>
            <p:nvPr/>
          </p:nvSpPr>
          <p:spPr>
            <a:xfrm>
              <a:off x="2916720" y="41166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sa atomica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2"/>
            <p:cNvSpPr/>
            <p:nvPr/>
          </p:nvSpPr>
          <p:spPr>
            <a:xfrm>
              <a:off x="4793040" y="3896280"/>
              <a:ext cx="329040" cy="28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3"/>
            <p:cNvSpPr/>
            <p:nvPr/>
          </p:nvSpPr>
          <p:spPr>
            <a:xfrm>
              <a:off x="4891320" y="41166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mar atomi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 flipV="1">
              <a:off x="4996440" y="3387600"/>
              <a:ext cx="532440" cy="1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5"/>
            <p:cNvSpPr/>
            <p:nvPr/>
          </p:nvSpPr>
          <p:spPr>
            <a:xfrm>
              <a:off x="5501520" y="2921400"/>
              <a:ext cx="1119960" cy="712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cc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toni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6"/>
            <p:cNvSpPr/>
            <p:nvPr/>
          </p:nvSpPr>
          <p:spPr>
            <a:xfrm flipV="1">
              <a:off x="4464000" y="2895480"/>
              <a:ext cx="0" cy="35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7"/>
            <p:cNvSpPr/>
            <p:nvPr/>
          </p:nvSpPr>
          <p:spPr>
            <a:xfrm>
              <a:off x="3904200" y="2183040"/>
              <a:ext cx="1119600" cy="7124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e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on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8"/>
            <p:cNvSpPr/>
            <p:nvPr/>
          </p:nvSpPr>
          <p:spPr>
            <a:xfrm>
              <a:off x="3904200" y="3252240"/>
              <a:ext cx="1119600" cy="712440"/>
            </a:xfrm>
            <a:prstGeom prst="ellips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omul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bon ar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9"/>
          <p:cNvSpPr/>
          <p:nvPr/>
        </p:nvSpPr>
        <p:spPr>
          <a:xfrm>
            <a:off x="619200" y="6915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Completati  schema pentru elementul carbon conform cerintelor din i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250920" y="765000"/>
            <a:ext cx="73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ficul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him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cam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cat prod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de rea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pentru ecu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le rea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lor chimice.Scrie tu varianta corec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 în cea dea doua rubrică a tabelulu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folos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 coeficie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adecv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colo unde este caz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2492280"/>
          <a:ext cx="8229600" cy="30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a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a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Na+O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34" descr="chimie"/>
          <p:cNvPicPr/>
          <p:nvPr/>
        </p:nvPicPr>
        <p:blipFill>
          <a:blip r:embed="rId1"/>
          <a:stretch/>
        </p:blipFill>
        <p:spPr>
          <a:xfrm>
            <a:off x="7380360" y="692280"/>
            <a:ext cx="1511280" cy="145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Câte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mede oxigen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se consumă î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reacţie c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g de 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bon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Ce volum de gaz rezultă din reacţie ? (AH =1; AC =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cc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chimie"/>
          <p:cNvPicPr/>
          <p:nvPr/>
        </p:nvPicPr>
        <p:blipFill>
          <a:blip r:embed="rId1"/>
          <a:stretch/>
        </p:blipFill>
        <p:spPr>
          <a:xfrm>
            <a:off x="3635280" y="3500280"/>
            <a:ext cx="2076480" cy="17416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8:27:17Z</dcterms:created>
  <dc:creator>tavi</dc:creator>
  <dc:description/>
  <dc:language>en-US</dc:language>
  <cp:lastModifiedBy>scoala cosb</cp:lastModifiedBy>
  <dcterms:modified xsi:type="dcterms:W3CDTF">2015-06-30T09:35:55Z</dcterms:modified>
  <cp:revision>24</cp:revision>
  <dc:subject/>
  <dc:title>Slide 1</dc:title>
</cp:coreProperties>
</file>