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350-451D-42DC-A51E-387501BC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C3F-AD5C-414A-AC5B-FFB81FC9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477-C09A-4228-858D-E04DC156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F59-DE02-4DBE-BA45-77B8A2BF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E8B-F909-4E7B-8D6A-ADA02E7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C4B-EC18-449C-97FE-8FC76B8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949-4FDE-4B10-A4D2-87D6ABBF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0A4-ADBA-412B-89A0-6D61985F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C26-4D27-4439-B907-3F645170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FB7-D564-4756-B8C0-7D09900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DDF-A9A5-49D7-AD6B-CA7BCC21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A9A-8BBE-48B4-9AF3-552A2F24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AFAB-3730-46BA-B0DE-385CE0F9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amentul optim al acţiunii educative din şcoală este în funcţie de formula următoare: unei psihologii diferenţiale să-i corespundă o pedagogie individualizată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le Planchard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40464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PTAREA  LECŢIILOR  DE  CHIMIE LA  CERINŢELE   EDUCAŢIONALE IMPUSE  DE  NIVELUL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EI / ELEVULUI  PENTRU  PARCURGEREA    PROGRAMEI  ŞCOLARE                 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123gifs001"/>
          <p:cNvPicPr/>
          <p:nvPr/>
        </p:nvPicPr>
        <p:blipFill>
          <a:blip r:embed="rId1"/>
          <a:stretch/>
        </p:blipFill>
        <p:spPr>
          <a:xfrm>
            <a:off x="3348000" y="4653000"/>
            <a:ext cx="2160720" cy="1693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ÎNCERCUIŢI SUBSTANŢE CU  CARB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DIAMA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GRAF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) AP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1289993080a06c7a2a1f7d955b70ad24f3fa4e06421"/>
          <p:cNvPicPr/>
          <p:nvPr/>
        </p:nvPicPr>
        <p:blipFill>
          <a:blip r:embed="rId1"/>
          <a:stretch/>
        </p:blipFill>
        <p:spPr>
          <a:xfrm>
            <a:off x="2195640" y="98100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c_creion_grafit_monolit__38797"/>
          <p:cNvPicPr/>
          <p:nvPr/>
        </p:nvPicPr>
        <p:blipFill>
          <a:blip r:embed="rId2"/>
          <a:stretch/>
        </p:blipFill>
        <p:spPr>
          <a:xfrm>
            <a:off x="2124000" y="2060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R8akJrxFr8JACjjmwNBnRMl_kEj3TJT5JDCTSOO8wQAVBTOXqTsQ"/>
          <p:cNvPicPr/>
          <p:nvPr/>
        </p:nvPicPr>
        <p:blipFill>
          <a:blip r:embed="rId3"/>
          <a:stretch/>
        </p:blipFill>
        <p:spPr>
          <a:xfrm>
            <a:off x="2050920" y="3500280"/>
            <a:ext cx="1327320" cy="8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ystery-Chemist"/>
          <p:cNvPicPr/>
          <p:nvPr/>
        </p:nvPicPr>
        <p:blipFill>
          <a:blip r:embed="rId4"/>
          <a:stretch/>
        </p:blipFill>
        <p:spPr>
          <a:xfrm>
            <a:off x="5148360" y="907920"/>
            <a:ext cx="265752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12880" indent="-812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Asociază corespunzător cifrele coloanei A cu literele coloan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Aerul                 a. este un amestec de gaze ce conţine 21% ox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Carbonul            b.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ne numai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Oxigenul            c. este un gaz in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ara miros,c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ant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d. se gă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în natură sub formă de cărb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_chimie"/>
          <p:cNvPicPr/>
          <p:nvPr/>
        </p:nvPicPr>
        <p:blipFill>
          <a:blip r:embed="rId9"/>
          <a:stretch/>
        </p:blipFill>
        <p:spPr>
          <a:xfrm>
            <a:off x="3203640" y="4508640"/>
            <a:ext cx="1657440" cy="96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4"/>
          <p:cNvGrpSpPr/>
          <p:nvPr/>
        </p:nvGrpSpPr>
        <p:grpSpPr>
          <a:xfrm>
            <a:off x="2306520" y="2183040"/>
            <a:ext cx="4314960" cy="2646000"/>
            <a:chOff x="2306520" y="2183040"/>
            <a:chExt cx="4314960" cy="264600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339912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2306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tron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80592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29167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a atomic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479304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48913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ar atomi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499644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5501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64000" y="2895480"/>
              <a:ext cx="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904200" y="21830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n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904200" y="32522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omu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9"/>
          <p:cNvSpPr/>
          <p:nvPr/>
        </p:nvSpPr>
        <p:spPr>
          <a:xfrm>
            <a:off x="619200" y="6915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mpletati  schema pentru elementul carbon conform cerintelor din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250920" y="76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fi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him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cat prod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pentru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or chimice.Scrie tu varianta corec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în cea dea doua rubrică a tabelul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olo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coefici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decv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colo unde este c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92280"/>
          <a:ext cx="8229600" cy="30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N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4" descr="chimie"/>
          <p:cNvPicPr/>
          <p:nvPr/>
        </p:nvPicPr>
        <p:blipFill>
          <a:blip r:embed="rId1"/>
          <a:stretch/>
        </p:blipFill>
        <p:spPr>
          <a:xfrm>
            <a:off x="7380360" y="692280"/>
            <a:ext cx="1511280" cy="145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ât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ede oxige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se consumă î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reacţie c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g de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bo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e volum de gaz rezultă din reacţie ? (AH =1; AC =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himie"/>
          <p:cNvPicPr/>
          <p:nvPr/>
        </p:nvPicPr>
        <p:blipFill>
          <a:blip r:embed="rId1"/>
          <a:stretch/>
        </p:blipFill>
        <p:spPr>
          <a:xfrm>
            <a:off x="3635280" y="3500280"/>
            <a:ext cx="2076480" cy="174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27:17Z</dcterms:created>
  <dc:creator>tavi</dc:creator>
  <dc:description/>
  <dc:language>en-US</dc:language>
  <cp:lastModifiedBy>scoala cosb</cp:lastModifiedBy>
  <dcterms:modified xsi:type="dcterms:W3CDTF">2015-06-30T09:35:55Z</dcterms:modified>
  <cp:revision>24</cp:revision>
  <dc:subject/>
  <dc:title>Slide 1</dc:title>
</cp:coreProperties>
</file>