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8.gif" ContentType="image/gif"/>
  <Override PartName="/ppt/media/image6.png" ContentType="image/pn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E0F51-1841-4C2C-B504-ECB675443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8AD47-A801-4839-BF81-3951B7016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9FF58-E383-4E36-B34C-E7A9A9839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6B3C7-F518-4EF5-8F26-F68174006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9412C-D17F-4C47-AFA6-4317CCC22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4BF3B-1301-401F-9133-AAEAEA138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360B0-23D7-40C3-B8C1-121A18A91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9AC22-4888-4DB0-AE02-1D146FBCA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4388B-34F3-4550-B912-DCF7B4DC8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DB72D-B66B-4505-8BE2-49B240FAD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AD07C-4FC3-4DCA-BFFA-E4C79192F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7829F-92B2-414F-9473-28D04A649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B0DFC-EE28-44F9-AAAC-2A1D7AD299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78920" y="2133720"/>
            <a:ext cx="871380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andamentul optim al acţiunii educative din şcoală este în funcţie de formula următoare: unei psihologii diferenţiale să-i corespundă o pedagogie individualizată’’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mile Planchard (197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4"/>
          <p:cNvSpPr txBox="1"/>
          <p:nvPr/>
        </p:nvSpPr>
        <p:spPr>
          <a:xfrm>
            <a:off x="826920" y="404640"/>
            <a:ext cx="7772400" cy="1470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9080">
                  <a:solidFill>
                    <a:srgbClr val="bbe0e3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  </a:t>
            </a:r>
            <a:r>
              <a:rPr b="0" lang="en-US" sz="4000" spc="1" strike="noStrike">
                <a:ln w="19080">
                  <a:solidFill>
                    <a:srgbClr val="bbe0e3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DAPTAREA  LECŢIILOR  DE  CHIMIE LA  CERINŢELE   EDUCAŢIONALE IMPUSE  DE  NIVELUL </a:t>
            </a:r>
            <a:endParaRPr b="0" lang="en-US" sz="4000" spc="1" strike="noStrike">
              <a:ln w="19080">
                <a:solidFill>
                  <a:srgbClr val="bbe0e3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1" strike="noStrike">
              <a:ln w="19080">
                <a:solidFill>
                  <a:srgbClr val="bbe0e3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9080">
                  <a:solidFill>
                    <a:srgbClr val="bbe0e3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0" lang="en-US" sz="4000" spc="1" strike="noStrike">
                <a:ln w="19080">
                  <a:solidFill>
                    <a:srgbClr val="bbe0e3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LASEI / ELEVULUI  PENTRU  PARCURGEREA    PROGRAMEI  ŞCOLARE                  </a:t>
            </a:r>
            <a:endParaRPr b="0" lang="en-US" sz="4000" spc="1" strike="noStrike">
              <a:ln w="19080">
                <a:solidFill>
                  <a:srgbClr val="bbe0e3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3" name="Picture 6" descr="123gifs001"/>
          <p:cNvPicPr/>
          <p:nvPr/>
        </p:nvPicPr>
        <p:blipFill>
          <a:blip r:embed="rId1"/>
          <a:stretch/>
        </p:blipFill>
        <p:spPr>
          <a:xfrm>
            <a:off x="3348000" y="4653000"/>
            <a:ext cx="2160720" cy="169380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ÎNCERCUIŢI SUBSTANŢE CU  CARBO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) DIAMANT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) GRAFIT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 ) APA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5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7" descr="1289993080a06c7a2a1f7d955b70ad24f3fa4e06421"/>
          <p:cNvPicPr/>
          <p:nvPr/>
        </p:nvPicPr>
        <p:blipFill>
          <a:blip r:embed="rId1"/>
          <a:stretch/>
        </p:blipFill>
        <p:spPr>
          <a:xfrm>
            <a:off x="2195640" y="981000"/>
            <a:ext cx="1152360" cy="9018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4" descr="cc_creion_grafit_monolit__38797"/>
          <p:cNvPicPr/>
          <p:nvPr/>
        </p:nvPicPr>
        <p:blipFill>
          <a:blip r:embed="rId2"/>
          <a:stretch/>
        </p:blipFill>
        <p:spPr>
          <a:xfrm>
            <a:off x="2124000" y="2060640"/>
            <a:ext cx="1152720" cy="1008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6" descr="ANd9GcR8akJrxFr8JACjjmwNBnRMl_kEj3TJT5JDCTSOO8wQAVBTOXqTsQ"/>
          <p:cNvPicPr/>
          <p:nvPr/>
        </p:nvPicPr>
        <p:blipFill>
          <a:blip r:embed="rId3"/>
          <a:stretch/>
        </p:blipFill>
        <p:spPr>
          <a:xfrm>
            <a:off x="2050920" y="3500280"/>
            <a:ext cx="1327320" cy="8956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0" descr="Mystery-Chemist"/>
          <p:cNvPicPr/>
          <p:nvPr/>
        </p:nvPicPr>
        <p:blipFill>
          <a:blip r:embed="rId4"/>
          <a:stretch/>
        </p:blipFill>
        <p:spPr>
          <a:xfrm>
            <a:off x="5148360" y="907920"/>
            <a:ext cx="2657520" cy="3743280"/>
          </a:xfrm>
          <a:prstGeom prst="rect">
            <a:avLst/>
          </a:prstGeom>
          <a:ln w="0">
            <a:noFill/>
          </a:ln>
        </p:spPr>
      </p:pic>
    </p:spTree>
  </p:cSld>
  <p:transition>
    <p:push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812880" indent="-8128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ff"/>
                </a:solidFill>
                <a:latin typeface="Arial"/>
              </a:rPr>
              <a:t>Asociază corespunzător cifrele coloanei A cu literele coloanei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A                                                  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45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1. Aerul                 a. este un amestec de gaze ce conţine 21% oxi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2. Carbonul            b. 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ţine numai car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451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451"/>
              </a:spcBef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3. Oxigenul            c. este un gaz incolo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fara miros,cu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ρ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a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451"/>
              </a:spcBef>
              <a:buSzPct val="1028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451"/>
              </a:spcBef>
              <a:buSzPct val="10281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mantul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         d. se găs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ş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te în natură sub formă de cărbu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7" descr="logo_chimie"/>
          <p:cNvPicPr/>
          <p:nvPr/>
        </p:nvPicPr>
        <p:blipFill>
          <a:blip r:embed="rId9"/>
          <a:stretch/>
        </p:blipFill>
        <p:spPr>
          <a:xfrm>
            <a:off x="3203640" y="4508640"/>
            <a:ext cx="1657440" cy="9633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Diagram 4"/>
          <p:cNvGrpSpPr/>
          <p:nvPr/>
        </p:nvGrpSpPr>
        <p:grpSpPr>
          <a:xfrm>
            <a:off x="2306520" y="2183040"/>
            <a:ext cx="4314960" cy="2646000"/>
            <a:chOff x="2306520" y="2183040"/>
            <a:chExt cx="4314960" cy="2646000"/>
          </a:xfrm>
        </p:grpSpPr>
        <p:sp>
          <p:nvSpPr>
            <p:cNvPr id="53" name="_s1028"/>
            <p:cNvSpPr/>
            <p:nvPr/>
          </p:nvSpPr>
          <p:spPr>
            <a:xfrm flipH="1" flipV="1">
              <a:off x="3399120" y="3387600"/>
              <a:ext cx="532440" cy="10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_s1029"/>
            <p:cNvSpPr/>
            <p:nvPr/>
          </p:nvSpPr>
          <p:spPr>
            <a:xfrm>
              <a:off x="2306520" y="2921400"/>
              <a:ext cx="1119960" cy="71244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ffff99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eutroni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_s1030"/>
            <p:cNvSpPr/>
            <p:nvPr/>
          </p:nvSpPr>
          <p:spPr>
            <a:xfrm flipH="1">
              <a:off x="3805920" y="3896280"/>
              <a:ext cx="329040" cy="288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_s1031"/>
            <p:cNvSpPr/>
            <p:nvPr/>
          </p:nvSpPr>
          <p:spPr>
            <a:xfrm>
              <a:off x="2916720" y="4116600"/>
              <a:ext cx="1119960" cy="7124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cc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asa atomica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_s1032"/>
            <p:cNvSpPr/>
            <p:nvPr/>
          </p:nvSpPr>
          <p:spPr>
            <a:xfrm>
              <a:off x="4793040" y="3896280"/>
              <a:ext cx="329040" cy="288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_s1033"/>
            <p:cNvSpPr/>
            <p:nvPr/>
          </p:nvSpPr>
          <p:spPr>
            <a:xfrm>
              <a:off x="4891320" y="4116600"/>
              <a:ext cx="1119960" cy="712440"/>
            </a:xfrm>
            <a:prstGeom prst="ellipse">
              <a:avLst/>
            </a:prstGeom>
            <a:gradFill rotWithShape="0">
              <a:gsLst>
                <a:gs pos="0">
                  <a:srgbClr val="33cccc"/>
                </a:gs>
                <a:gs pos="100000">
                  <a:srgbClr val="ffcc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umar atomic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_s1034"/>
            <p:cNvSpPr/>
            <p:nvPr/>
          </p:nvSpPr>
          <p:spPr>
            <a:xfrm flipV="1">
              <a:off x="4996440" y="3387600"/>
              <a:ext cx="532440" cy="10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_s1035"/>
            <p:cNvSpPr/>
            <p:nvPr/>
          </p:nvSpPr>
          <p:spPr>
            <a:xfrm>
              <a:off x="5501520" y="2921400"/>
              <a:ext cx="1119960" cy="71244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cc99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rotoni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_s1036"/>
            <p:cNvSpPr/>
            <p:nvPr/>
          </p:nvSpPr>
          <p:spPr>
            <a:xfrm flipV="1">
              <a:off x="4464000" y="2895480"/>
              <a:ext cx="0" cy="356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_s1037"/>
            <p:cNvSpPr/>
            <p:nvPr/>
          </p:nvSpPr>
          <p:spPr>
            <a:xfrm>
              <a:off x="3904200" y="2183040"/>
              <a:ext cx="1119600" cy="712440"/>
            </a:xfrm>
            <a:prstGeom prst="ellipse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Elec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roni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_s1038"/>
            <p:cNvSpPr/>
            <p:nvPr/>
          </p:nvSpPr>
          <p:spPr>
            <a:xfrm>
              <a:off x="3904200" y="3252240"/>
              <a:ext cx="1119600" cy="712440"/>
            </a:xfrm>
            <a:prstGeom prst="ellipse">
              <a:avLst/>
            </a:prstGeom>
            <a:gradFill rotWithShape="0">
              <a:gsLst>
                <a:gs pos="0">
                  <a:srgbClr val="cc99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tomul d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arbon are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Rectangle 19"/>
          <p:cNvSpPr/>
          <p:nvPr/>
        </p:nvSpPr>
        <p:spPr>
          <a:xfrm>
            <a:off x="619200" y="69156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Completati  schema pentru elementul carbon conform cerintelor din interi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8"/>
          <p:cNvSpPr/>
          <p:nvPr/>
        </p:nvSpPr>
        <p:spPr>
          <a:xfrm>
            <a:off x="250920" y="765000"/>
            <a:ext cx="7345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leficul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chimi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 cam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î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rcat produ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i de reac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ţ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e pentru ecua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ţ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ile reac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ţ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ilor chimice.Scrie tu varianta corect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ă în cea dea doua rubrică a tabelulu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 folose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 coeficien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ţ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i adecva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ţ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 acolo unde este cazu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468360" y="2492280"/>
          <a:ext cx="8229600" cy="30196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60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+H</a:t>
                      </a:r>
                      <a:r>
                        <a:rPr b="1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CaO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Ca+O</a:t>
                      </a:r>
                      <a:r>
                        <a:rPr b="1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CO</a:t>
                      </a:r>
                      <a:r>
                        <a:rPr b="1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1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+O</a:t>
                      </a:r>
                      <a:r>
                        <a:rPr b="1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Na</a:t>
                      </a:r>
                      <a:r>
                        <a:rPr b="1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O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+O</a:t>
                      </a:r>
                      <a:r>
                        <a:rPr b="1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CH</a:t>
                      </a:r>
                      <a:r>
                        <a:rPr b="1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Na+O</a:t>
                      </a:r>
                      <a:r>
                        <a:rPr b="1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2H</a:t>
                      </a:r>
                      <a:r>
                        <a:rPr b="1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7" name="Picture 34" descr="chimie"/>
          <p:cNvPicPr/>
          <p:nvPr/>
        </p:nvPicPr>
        <p:blipFill>
          <a:blip r:embed="rId1"/>
          <a:stretch/>
        </p:blipFill>
        <p:spPr>
          <a:xfrm>
            <a:off x="7380360" y="692280"/>
            <a:ext cx="1511280" cy="14508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250920" y="907920"/>
            <a:ext cx="8642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o-RO" sz="3200" spc="-1" strike="noStrike">
                <a:solidFill>
                  <a:srgbClr val="000000"/>
                </a:solidFill>
                <a:latin typeface="Arial"/>
              </a:rPr>
              <a:t>Câte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gramede oxigen</a:t>
            </a:r>
            <a:r>
              <a:rPr b="0" i="1" lang="ro-RO" sz="3200" spc="-1" strike="noStrike">
                <a:solidFill>
                  <a:srgbClr val="000000"/>
                </a:solidFill>
                <a:latin typeface="Arial"/>
              </a:rPr>
              <a:t> se consumă în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o-RO" sz="3200" spc="-1" strike="noStrike">
                <a:solidFill>
                  <a:srgbClr val="000000"/>
                </a:solidFill>
                <a:latin typeface="Arial"/>
              </a:rPr>
              <a:t>reacţie c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28</a:t>
            </a:r>
            <a:r>
              <a:rPr b="0" i="1" lang="ro-RO" sz="3200" spc="-1" strike="noStrike">
                <a:solidFill>
                  <a:srgbClr val="000000"/>
                </a:solidFill>
                <a:latin typeface="Arial"/>
              </a:rPr>
              <a:t> g de c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rbon</a:t>
            </a:r>
            <a:r>
              <a:rPr b="0" i="1" lang="ro-RO" sz="3200" spc="-1" strike="noStrike">
                <a:solidFill>
                  <a:srgbClr val="000000"/>
                </a:solidFill>
                <a:latin typeface="Arial"/>
              </a:rPr>
              <a:t>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o-RO" sz="3200" spc="-1" strike="noStrike">
                <a:solidFill>
                  <a:srgbClr val="000000"/>
                </a:solidFill>
                <a:latin typeface="Arial"/>
              </a:rPr>
              <a:t>Ce volum de gaz rezultă din reacţie ? (AH =1; AC =1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ucces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7" descr="chimie"/>
          <p:cNvPicPr/>
          <p:nvPr/>
        </p:nvPicPr>
        <p:blipFill>
          <a:blip r:embed="rId1"/>
          <a:stretch/>
        </p:blipFill>
        <p:spPr>
          <a:xfrm>
            <a:off x="3635280" y="3500280"/>
            <a:ext cx="2076480" cy="1741680"/>
          </a:xfrm>
          <a:prstGeom prst="rect">
            <a:avLst/>
          </a:prstGeom>
          <a:ln w="0">
            <a:noFill/>
          </a:ln>
        </p:spPr>
      </p:pic>
    </p:spTree>
  </p:cSld>
  <p:transition>
    <p:cover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27T18:27:17Z</dcterms:created>
  <dc:creator>tavi</dc:creator>
  <dc:description/>
  <dc:language>en-US</dc:language>
  <cp:lastModifiedBy>scoala cosb</cp:lastModifiedBy>
  <dcterms:modified xsi:type="dcterms:W3CDTF">2015-06-30T09:35:55Z</dcterms:modified>
  <cp:revision>24</cp:revision>
  <dc:subject/>
  <dc:title>Slide 1</dc:title>
</cp:coreProperties>
</file>